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358-B830-4E81-9EA4-DF1BEDB7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D77-2EC6-4E83-A408-5AD13B6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F09-C84D-49C8-A8E4-1046846B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00A-0249-4438-9B9D-F8BF8ED8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E8E7-4A35-431E-82F9-36DE3FA9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FEAC-4F7F-43E0-A876-00C0FF1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BE96-E4B0-45C6-8644-8F1E11E9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4EF-81D9-4454-A1F8-EB15177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532-AFC2-4288-B637-87AC0FFB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288D-7D34-427D-BA5F-5C40FB42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D8DC-9ACB-4D45-933C-5A1C8E3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B21-5C51-4302-A049-6E8D3DF9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817-1ACC-42D4-B427-EF1A2BF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B4CF-3732-4A10-B0FF-0D965B3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88DF-E898-4D98-AE6D-CB20255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DB48-56E7-4073-BFD8-1F6526C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E701-88BA-4AB8-A079-D914B3F3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0F5-9A53-4FF8-A18E-43CBCF5F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976-5F9A-47B7-8C22-4F61991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83C-07BA-4D62-B3E3-CADFBDF1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865-98A8-4462-B5FD-013F2FA8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868-0E49-48C9-915A-922FCD7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F79-94B9-4F22-9FD5-120F743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4D5-0440-49E4-AE41-3FFFE86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2AA-C6C5-4984-89E3-05E3E78DD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FCE-6142-4581-A349-06D571C6C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752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mory C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3880" y="17524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3640" y="1752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01480" y="289548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ll word #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9240" y="27432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arras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96840" y="281952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mory clue of immin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6280" y="30481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e the m as in “double troubl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52240" y="281952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epa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9600" y="320040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a rat in 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3800" y="297180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surpr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0360" y="3168720"/>
            <a:ext cx="38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r’s and two s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8920" y="312408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spelling ceme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136960" y="312408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three e’s as in eeeck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05320" y="2895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ll Word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13640" y="312408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ory clue for counc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47920" y="243828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ociate the c with “circle” – the form used for seating this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94880" y="3124080"/>
            <a:ext cx="42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aning of m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6760" y="3124080"/>
            <a:ext cx="64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refers to sense of right or wr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04880" y="320040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personn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800" y="316872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ployees (nou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30000" y="320040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ning of immig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240" y="3168720"/>
            <a:ext cx="47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enter another cou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35400" y="320040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lma m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2971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chool from which he or she graduates or the school s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15920" y="325440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ectivel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82800" y="321948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 the order indicat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57400" y="342900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name of the sign that mean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informal wri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93440" y="320040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persand (&amp;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2160" y="3168720"/>
            <a:ext cx="59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 you underline wor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5800" y="2666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words, letters, signs, and numbers referred to, NOT for their meaning but for their for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5280" y="342900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 we use quotation mark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89280" y="3168720"/>
            <a:ext cx="58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s that are published as parts of another work: short stories, poems, articles, songs, one act plays, chapters, and essay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71600" y="312408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mark of punctuation glues two words together to make one wor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0292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yp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9240" y="312408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8280" y="3352680"/>
            <a:ext cx="53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numbers are hyphena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051280" y="320040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enty-one to ninety-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78840" y="33177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it called when a female pet is alter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09680" y="274320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0840" y="314964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yed, not sp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59092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3276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a single male graduate call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2971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03960" y="3276720"/>
            <a:ext cx="76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ords can be used to replace bough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33280" y="33526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ore-bought, ready-made, commercial, not-home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74320" y="320040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9240" y="320040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dergar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74320" y="32004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86560" y="315288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5200" y="32004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ll Word #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97280" y="31240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ci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213030</cp:lastModifiedBy>
  <dcterms:modified xsi:type="dcterms:W3CDTF">2010-05-17T16:22:07Z</dcterms:modified>
  <cp:revision>16</cp:revision>
  <dc:subject/>
  <dc:title>Jeopardy</dc:title>
</cp:coreProperties>
</file>